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6.png" ContentType="image/png"/>
  <Override PartName="/ppt/media/image4.png" ContentType="image/png"/>
  <Override PartName="/ppt/media/image5.pct" ContentType="image/x-pict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178-CCB7-4FDF-845B-116AD3DE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05A-B30C-4FCE-B827-79A2E836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B4E-49F7-429D-8945-5CDEB4C6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6F2-E1E9-4028-B8C4-0CD182F7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E1B-05A2-474A-AE7A-A98E10A6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F74-F306-43B6-B9DB-5B1D8A64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4FE-B72E-480C-9EAA-976FBE72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F98B-A1F2-4E60-9847-D5B14916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D1B-C298-4FCA-9EE1-317AF216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A64-5877-43FB-8BCD-D1CDCF64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0FE-A99E-4D51-86B1-F19FF28C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31D-E092-492B-A1AF-CEC35E06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3CAD-90EB-4D23-9419-6C3BE00D6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APL Icon - Blue"/>
          <p:cNvPicPr/>
          <p:nvPr/>
        </p:nvPicPr>
        <p:blipFill>
          <a:blip r:embed="rId2"/>
          <a:stretch/>
        </p:blipFill>
        <p:spPr>
          <a:xfrm>
            <a:off x="152280" y="228600"/>
            <a:ext cx="1143000" cy="657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8229600" y="152280"/>
            <a:ext cx="812880" cy="812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181480" y="3049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4792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622520" y="67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57240">
            <a:solidFill>
              <a:srgbClr val="000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Statu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J.Ba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0000"/>
                </a:solidFill>
                <a:latin typeface="Arial"/>
              </a:rPr>
              <a:t>Generating a multi-panel plot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lotcat ????.rp.xml &gt; multipage.rp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lotgrid -width 640 -height 960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numx 2 -numy 3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ultipage.rp.xml &gt; output.rp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6200" y="22860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T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24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0000"/>
                </a:solidFill>
                <a:latin typeface="Arial"/>
              </a:rPr>
              <a:t>New composi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ows plots to be constructed from layers of data (like G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e data sources (not just SuperDARN) can be composited toge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ll Alpha Channel blending (translucenc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800" spc="-1" strike="noStrike">
                <a:solidFill>
                  <a:srgbClr val="960000"/>
                </a:solidFill>
                <a:latin typeface="Arial"/>
              </a:rPr>
              <a:t>No other scientific visualization software can do thi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6200" y="22860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T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06200" y="22860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T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Macintosh HD:Users:barnes:Desktop:SuperDARN 2008:SDmovie.mov" descr=""/>
          <p:cNvPicPr/>
          <p:nvPr/>
        </p:nvPicPr>
        <p:blipFill>
          <a:blip r:embed="rId1"/>
          <a:stretch/>
        </p:blipFill>
        <p:spPr>
          <a:xfrm>
            <a:off x="990720" y="0"/>
            <a:ext cx="68562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9333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0000"/>
                </a:solidFill>
                <a:latin typeface="Arial"/>
              </a:rPr>
              <a:t>Scalable Vector Graphics (SVG)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existing rplot output is SuperDARN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VG is a W3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ed by many graphics edi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ed by many brow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6200" y="22860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T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1440"/>
            <a:ext cx="6856560" cy="6856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12600"/>
            <a:ext cx="6858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ne more thing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Receiver Driv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214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214 card at IF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214h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214 card at HF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214TS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214/TS card at IF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214TSh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214/TS card at HF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Lots of thanks to Todd and Di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a"/>
                </a:solidFill>
                <a:latin typeface="Arial"/>
              </a:rPr>
              <a:t>Drivers appear identical to the rest of the software so no customization for different rad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6920" y="2286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ar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us of Stere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eo converted to the new version of 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ed for analogue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ed for digital rece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receiver driver adapted to allow multiple c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aa"/>
                </a:solidFill>
                <a:latin typeface="Arial"/>
              </a:rPr>
              <a:t>The Stereo software has been installed and tested using digital receivers at Blackst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6920" y="2286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ar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 of “tausc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y and Kjellmar’s new pulse sequence and lag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g table has multiple pulse pairs for a single 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st pair are used for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analysis libraries and tools to suppor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to 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 a stereo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 variables to the RawACF file to indicate we are using a “tauscan mod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ly store only the first set of lag p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 to store the full lag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y make_fit to autodetect “tauscan” RawACF files and process them automati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6920" y="2286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ar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 of I&amp;Q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y was developed to diagnose digital receiver 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xscope as a virtual oscill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rawdump to look at actual sampl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from the command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d  a single monolithic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d not contain all the radar operating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6920" y="2286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ar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 of I&amp;Q samples  - iq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ilar to rawacfwrite and fitacf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s files every 2 hours in DataMap for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 contains the Radar Parameter Block and I&amp;Q s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s are accumulated in a shared memory buffer maintained by the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qwrite can be turned on and off in the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0000"/>
                </a:solidFill>
                <a:latin typeface="Arial"/>
              </a:rPr>
              <a:t>Files are bi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6920" y="2286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ar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at version 2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ous bug fi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tools for working with I&amp;Q 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ke_raw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a RawACF file from I&amp;Q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ke_rawe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a RawACF file from I&amp;Q data (tau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ke_iqin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an index file to an IQda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im_iq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m a section from an IQda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q_pl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ple xterminal display of I&amp;Q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6560" y="228600"/>
            <a:ext cx="36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0000"/>
                </a:solidFill>
                <a:latin typeface="Arial"/>
              </a:rPr>
              <a:t>The IDL libraries include routines for reading and writing I&amp;Q samples from an Iqdat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code i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DL implementation of the full ACF algorithm would be an excellent educational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od project for a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6560" y="228600"/>
            <a:ext cx="36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0000"/>
                </a:solidFill>
                <a:latin typeface="Arial"/>
              </a:rPr>
              <a:t>Added support for multi-page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iously tools could only produce a single p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icult to review lots of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s provided for working with multi-page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lotc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atenate multiple rplot files into one multi-p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lotgr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ormat a multi-page rplot file into a multi-panel 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lotinde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an index to a multi page r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lotmultiple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 a multi-page rplot file from multiple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lotpage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nt the number of pages in a multi-page rplot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lottri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pages from a multi-page rplot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6200" y="22860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T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26:21Z</dcterms:created>
  <dc:creator>Robin Barnes</dc:creator>
  <dc:description/>
  <dc:language>en-US</dc:language>
  <cp:lastModifiedBy>Robin Barnes</cp:lastModifiedBy>
  <dcterms:modified xsi:type="dcterms:W3CDTF">2008-06-01T21:43:12Z</dcterms:modified>
  <cp:revision>12</cp:revision>
  <dc:subject/>
  <dc:title>Software Status Report</dc:title>
</cp:coreProperties>
</file>