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20600" y="1014480"/>
            <a:ext cx="88711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Chalkboard"/>
                <a:ea typeface="ヒラギノ角ゴ Pro W3"/>
              </a:rPr>
              <a:t>Electric Field Oscillation behind Pulsating Aurora</a:t>
            </a:r>
            <a:br>
              <a:rPr sz="24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  <a:ea typeface="ヒラギノ角ゴ Pro W3"/>
              </a:rPr>
              <a:t>Simultaneous observations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  <a:ea typeface="ヒラギノ角ゴ Pro W3"/>
              </a:rPr>
              <a:t>with all-sky TV camera and SuperDARN in Ic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06520" y="3581280"/>
            <a:ext cx="8153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halkboard"/>
              </a:rPr>
              <a:t>◦</a:t>
            </a:r>
            <a:r>
              <a:rPr b="0" lang="ja-JP" sz="2000" spc="-1" strike="noStrike">
                <a:solidFill>
                  <a:srgbClr val="00ff00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00ff00"/>
                </a:solidFill>
                <a:latin typeface="Chalkboard"/>
              </a:rPr>
              <a:t>K. Hosokawa</a:t>
            </a:r>
            <a:r>
              <a:rPr b="0" lang="ja-JP" sz="2000" spc="-1" strike="noStrike" baseline="30000">
                <a:solidFill>
                  <a:srgbClr val="00ff00"/>
                </a:solidFill>
                <a:latin typeface="Chalkboard"/>
              </a:rPr>
              <a:t>1</a:t>
            </a:r>
            <a:r>
              <a:rPr b="0" lang="ja-JP" sz="2000" spc="-1" strike="noStrike">
                <a:solidFill>
                  <a:srgbClr val="00ff00"/>
                </a:solidFill>
                <a:latin typeface="Chalkboard"/>
              </a:rPr>
              <a:t> , A. Kadokura</a:t>
            </a:r>
            <a:r>
              <a:rPr b="0" lang="ja-JP" sz="2000" spc="-1" strike="noStrike" baseline="30000">
                <a:solidFill>
                  <a:srgbClr val="00ff00"/>
                </a:solidFill>
                <a:latin typeface="Chalkboard"/>
              </a:rPr>
              <a:t>2</a:t>
            </a:r>
            <a:r>
              <a:rPr b="0" lang="ja-JP" sz="2000" spc="-1" strike="noStrike">
                <a:solidFill>
                  <a:srgbClr val="00ff00"/>
                </a:solidFill>
                <a:latin typeface="Chalkboard"/>
              </a:rPr>
              <a:t> , N. Sato</a:t>
            </a:r>
            <a:r>
              <a:rPr b="0" lang="ja-JP" sz="2000" spc="-1" strike="noStrike" baseline="30000">
                <a:solidFill>
                  <a:srgbClr val="00ff00"/>
                </a:solidFill>
                <a:latin typeface="Chalkboar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ff00"/>
                </a:solidFill>
                <a:latin typeface="Chalkboard"/>
              </a:rPr>
              <a:t>S. E. Milan</a:t>
            </a:r>
            <a:r>
              <a:rPr b="0" lang="ja-JP" sz="2000" spc="-1" strike="noStrike" baseline="30000">
                <a:solidFill>
                  <a:srgbClr val="00ff00"/>
                </a:solidFill>
                <a:latin typeface="Chalkboard"/>
              </a:rPr>
              <a:t>3</a:t>
            </a:r>
            <a:r>
              <a:rPr b="0" lang="ja-JP" sz="2000" spc="-1" strike="noStrike">
                <a:solidFill>
                  <a:srgbClr val="00ff00"/>
                </a:solidFill>
                <a:latin typeface="Chalkboard"/>
              </a:rPr>
              <a:t> , M. Lester</a:t>
            </a:r>
            <a:r>
              <a:rPr b="0" lang="ja-JP" sz="2000" spc="-1" strike="noStrike" baseline="30000">
                <a:solidFill>
                  <a:srgbClr val="00ff00"/>
                </a:solidFill>
                <a:latin typeface="Chalkboard"/>
              </a:rPr>
              <a:t>3</a:t>
            </a:r>
            <a:r>
              <a:rPr b="0" lang="ja-JP" sz="2000" spc="-1" strike="noStrike">
                <a:solidFill>
                  <a:srgbClr val="00ff00"/>
                </a:solidFill>
                <a:latin typeface="Chalkboard"/>
              </a:rPr>
              <a:t> , G. Bjornsson</a:t>
            </a:r>
            <a:r>
              <a:rPr b="0" lang="ja-JP" sz="2000" spc="-1" strike="noStrike" baseline="30000">
                <a:solidFill>
                  <a:srgbClr val="00ff00"/>
                </a:solidFill>
                <a:latin typeface="Chalkboard"/>
              </a:rPr>
              <a:t>4</a:t>
            </a:r>
            <a:r>
              <a:rPr b="0" lang="ja-JP" sz="2000" spc="-1" strike="noStrike">
                <a:solidFill>
                  <a:srgbClr val="00ff00"/>
                </a:solidFill>
                <a:latin typeface="Chalkboard"/>
              </a:rPr>
              <a:t> and T. Saemundsson</a:t>
            </a:r>
            <a:r>
              <a:rPr b="0" lang="ja-JP" sz="2000" spc="-1" strike="noStrike" baseline="30000">
                <a:solidFill>
                  <a:srgbClr val="00ff00"/>
                </a:solidFill>
                <a:latin typeface="Chalkboard"/>
              </a:rPr>
              <a:t>4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baseline="30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ja-JP" sz="1800" spc="-1" strike="noStrike">
                <a:solidFill>
                  <a:srgbClr val="ffffff"/>
                </a:solidFill>
                <a:latin typeface="Chalkboard"/>
              </a:rPr>
              <a:t> The University of Electro-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ja-JP" sz="1800" spc="-1" strike="noStrike">
                <a:solidFill>
                  <a:srgbClr val="ffffff"/>
                </a:solidFill>
                <a:latin typeface="Chalkboard"/>
              </a:rPr>
              <a:t> National Institute of Polar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baseline="30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ja-JP" sz="1800" spc="-1" strike="noStrike">
                <a:solidFill>
                  <a:srgbClr val="ffffff"/>
                </a:solidFill>
                <a:latin typeface="Chalkboard"/>
              </a:rPr>
              <a:t> Department of Physics and Astronomy, University of Leic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baseline="30000">
                <a:solidFill>
                  <a:srgbClr val="ffffff"/>
                </a:solidFill>
                <a:latin typeface="Chalkboard"/>
              </a:rPr>
              <a:t>4</a:t>
            </a:r>
            <a:r>
              <a:rPr b="0" lang="ja-JP" sz="1800" spc="-1" strike="noStrike">
                <a:solidFill>
                  <a:srgbClr val="ffffff"/>
                </a:solidFill>
                <a:latin typeface="Chalkboard"/>
              </a:rPr>
              <a:t> Science Institute, University of Ic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838080"/>
            <a:ext cx="8534160" cy="586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cenario 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1077840"/>
            <a:ext cx="7316640" cy="5399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86200" y="3352680"/>
            <a:ext cx="1295280" cy="83844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0"/>
                </a:moveTo>
                <a:lnTo>
                  <a:pt x="816" y="0"/>
                </a:lnTo>
                <a:lnTo>
                  <a:pt x="816" y="528"/>
                </a:lnTo>
                <a:lnTo>
                  <a:pt x="0" y="528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1280" y="3505320"/>
            <a:ext cx="117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halkboard"/>
              </a:rPr>
              <a:t>on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halkboard"/>
              </a:rPr>
              <a:t>of pul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8534160" cy="586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cenario 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990720"/>
            <a:ext cx="7316640" cy="5486400"/>
            <a:chOff x="914400" y="990720"/>
            <a:chExt cx="7316640" cy="54864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914400" y="1077840"/>
              <a:ext cx="731664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990720" y="990720"/>
              <a:ext cx="335268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724280" y="3962520"/>
            <a:ext cx="35053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86760" y="1033560"/>
            <a:ext cx="33307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ja-JP" sz="1800" spc="-1" strike="noStrike" baseline="-25000">
                <a:solidFill>
                  <a:srgbClr val="ff0000"/>
                </a:solidFill>
                <a:latin typeface="Times New Roman"/>
              </a:rPr>
              <a:t>pol</a:t>
            </a:r>
            <a:r>
              <a:rPr b="0" i="1" lang="ja-JP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is actually anti-parar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to </a:t>
            </a:r>
            <a:r>
              <a:rPr b="1" i="1" lang="ja-JP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ja-JP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 (i.e. poleward!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However, its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is less equal to </a:t>
            </a:r>
            <a:r>
              <a:rPr b="1" i="1" lang="ja-JP" sz="1800" spc="-1" strike="noStrike">
                <a:solidFill>
                  <a:srgbClr val="ff0000"/>
                </a:solidFill>
                <a:latin typeface="Times New Roman"/>
              </a:rPr>
              <a:t>|E</a:t>
            </a:r>
            <a:r>
              <a:rPr b="1" i="1" lang="ja-JP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ja-JP" sz="1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 even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we assume no charge e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at the edges via F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This scenario cannot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the current obse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648320" y="3971880"/>
            <a:ext cx="3322440" cy="2352600"/>
            <a:chOff x="4648320" y="3971880"/>
            <a:chExt cx="3322440" cy="235260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rcRect l="0" t="21151" r="39161" b="60643"/>
            <a:stretch/>
          </p:blipFill>
          <p:spPr>
            <a:xfrm>
              <a:off x="4648320" y="4707000"/>
              <a:ext cx="33224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rcRect l="0" t="0" r="42823" b="82365"/>
            <a:stretch/>
          </p:blipFill>
          <p:spPr>
            <a:xfrm>
              <a:off x="4648320" y="3971880"/>
              <a:ext cx="31222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rcRect l="10439" t="76988" r="48489" b="5584"/>
            <a:stretch/>
          </p:blipFill>
          <p:spPr>
            <a:xfrm>
              <a:off x="5257800" y="5495760"/>
              <a:ext cx="2242800" cy="82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838080"/>
            <a:ext cx="8534160" cy="586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halkboard"/>
              </a:rPr>
              <a:t>scenario B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077840"/>
            <a:ext cx="7316640" cy="5399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86200" y="3352680"/>
            <a:ext cx="1295280" cy="83844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0"/>
                </a:moveTo>
                <a:lnTo>
                  <a:pt x="816" y="0"/>
                </a:lnTo>
                <a:lnTo>
                  <a:pt x="816" y="528"/>
                </a:lnTo>
                <a:lnTo>
                  <a:pt x="0" y="528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41280" y="3505320"/>
            <a:ext cx="117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halkboard"/>
              </a:rPr>
              <a:t>on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halkboard"/>
              </a:rPr>
              <a:t>of pul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838080"/>
            <a:ext cx="8534160" cy="586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halkboard"/>
              </a:rPr>
              <a:t>scenario B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14400" y="990720"/>
            <a:ext cx="7316640" cy="5486400"/>
            <a:chOff x="914400" y="990720"/>
            <a:chExt cx="7316640" cy="54864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914400" y="1077840"/>
              <a:ext cx="731664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914400" y="990720"/>
              <a:ext cx="3429000" cy="25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3886200"/>
              <a:ext cx="3429000" cy="259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66680" y="1047600"/>
            <a:ext cx="350532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Contribution of Hall current from </a:t>
            </a:r>
            <a:r>
              <a:rPr b="1" i="1" lang="ja-JP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ja-JP" sz="1800" spc="-1" strike="noStrike" baseline="-25000">
                <a:solidFill>
                  <a:srgbClr val="ff0000"/>
                </a:solidFill>
                <a:latin typeface="Times New Roman"/>
              </a:rPr>
              <a:t>0y</a:t>
            </a: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 can produce poleward electric field whose amplitude is greater than </a:t>
            </a:r>
            <a:r>
              <a:rPr b="1" i="1" lang="ja-JP" sz="1800" spc="-1" strike="noStrike">
                <a:solidFill>
                  <a:srgbClr val="ff0000"/>
                </a:solidFill>
                <a:latin typeface="Times New Roman"/>
              </a:rPr>
              <a:t>|E</a:t>
            </a:r>
            <a:r>
              <a:rPr b="1" i="1" lang="ja-JP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ja-JP" sz="1800" spc="-1" strike="noStrike">
                <a:solidFill>
                  <a:srgbClr val="ff0000"/>
                </a:solidFill>
                <a:latin typeface="Times New Roman"/>
              </a:rPr>
              <a:t>|.</a:t>
            </a:r>
            <a:br>
              <a:rPr sz="1800"/>
            </a:br>
            <a:br>
              <a:rPr sz="1800"/>
            </a:br>
            <a:r>
              <a:rPr b="0" lang="ja-JP" sz="1800" spc="-1" strike="noStrike">
                <a:solidFill>
                  <a:srgbClr val="ff0000"/>
                </a:solidFill>
                <a:latin typeface="Chalkboard"/>
              </a:rPr>
              <a:t>Assuming a Maxwellian distribution having characteristic energy of 10 keV, Hall/Pedersen ratio is about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0" y="4084560"/>
            <a:ext cx="3962520" cy="2315880"/>
            <a:chOff x="4572000" y="4084560"/>
            <a:chExt cx="3962520" cy="2315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rcRect l="11103" t="72174" r="14535" b="0"/>
            <a:stretch/>
          </p:blipFill>
          <p:spPr>
            <a:xfrm>
              <a:off x="4993200" y="5349240"/>
              <a:ext cx="322920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rcRect l="2265" t="0" r="6510" b="82201"/>
            <a:stretch/>
          </p:blipFill>
          <p:spPr>
            <a:xfrm>
              <a:off x="4572000" y="4084560"/>
              <a:ext cx="3962520" cy="67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rcRect l="2265" t="21522" r="6510" b="59909"/>
            <a:stretch/>
          </p:blipFill>
          <p:spPr>
            <a:xfrm>
              <a:off x="4572000" y="4786200"/>
              <a:ext cx="3962520" cy="70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  <a:ea typeface="ＤＦＰ行書体"/>
              </a:rPr>
              <a:t>We have conducted campaign observations of pulsating aurora over Iceland with radio (SuperDARN Pykkvibaer) and optical (all-sky TV camera at Tjornes) equipments in the recent 3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  <a:ea typeface="ＤＦＰ行書体"/>
              </a:rPr>
              <a:t>We have found an event of pulsating aurora that were observed simultaneously by the radio and optical instruments. The event occurred on Nov 25th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  <a:ea typeface="ＤＦＰ行書体"/>
              </a:rPr>
              <a:t>During the interval of interest, the SuperDARN radar identified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  <a:ea typeface="ＤＦＰ行書体"/>
              </a:rPr>
              <a:t>electric field oscillating in phase with pulsating aurora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  <a:ea typeface="ＤＦＰ行書体"/>
              </a:rPr>
              <a:t>. These are</a:t>
            </a:r>
            <a:br>
              <a:rPr sz="2000"/>
            </a:br>
            <a:r>
              <a:rPr b="0" lang="ja-JP" sz="2000" spc="-1" strike="noStrike" u="sng">
                <a:solidFill>
                  <a:srgbClr val="ffffff"/>
                </a:solidFill>
                <a:uFillTx/>
                <a:latin typeface="Chalkboard"/>
                <a:ea typeface="ＤＦＰ行書体"/>
              </a:rPr>
              <a:t>the first direct measurement of electric field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  <a:ea typeface="ＤＦＰ行書体"/>
              </a:rPr>
              <a:t> associated with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  <a:ea typeface="ＤＦＰ行書体"/>
              </a:rPr>
              <a:t>pulsating auro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  <a:ea typeface="ＤＦＰ行書体"/>
              </a:rPr>
              <a:t>This oscillating electric field can be interpreted as a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  <a:ea typeface="ＤＦＰ行書体"/>
              </a:rPr>
              <a:t>polarization</a:t>
            </a:r>
            <a:br>
              <a:rPr sz="2000"/>
            </a:br>
            <a:r>
              <a:rPr b="0" lang="ja-JP" sz="2000" spc="-1" strike="noStrike">
                <a:solidFill>
                  <a:srgbClr val="ffff00"/>
                </a:solidFill>
                <a:latin typeface="Chalkboard"/>
                <a:ea typeface="ＤＦＰ行書体"/>
              </a:rPr>
              <a:t>electric field generated as a consequence of an enhanced conductance within the patch of pulsating aur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  <a:ea typeface="ＤＦＰ行書体"/>
              </a:rPr>
              <a:t>As a next step, we have to discuss how characteristics of pulsating aurora can be modified or controlled by the local ionospheric conditions such as the polarization electric field reported 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t appears quite often …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8737" t="14332" r="765" b="0"/>
          <a:stretch/>
        </p:blipFill>
        <p:spPr>
          <a:xfrm>
            <a:off x="990720" y="1539720"/>
            <a:ext cx="7848360" cy="5089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rot="16200000">
            <a:off x="-277920" y="2466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20051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0310-0320 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-277920" y="47736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200609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0255-0310 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83808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halkboard"/>
              </a:rPr>
              <a:t>Similar oscillating electric field appears quite often during the recovery phase of substorm. Unfortunately, optical data were not available during the two event shown bel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9144000" cy="6166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28800" y="4033800"/>
            <a:ext cx="990720" cy="762120"/>
          </a:xfrm>
          <a:prstGeom prst="ellipse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3195720"/>
            <a:ext cx="1523880" cy="1143000"/>
          </a:xfrm>
          <a:prstGeom prst="ellipse">
            <a:avLst/>
          </a:prstGeom>
          <a:noFill/>
          <a:ln w="381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14720" y="4232160"/>
            <a:ext cx="1523880" cy="114300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223920"/>
            <a:ext cx="292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36800" y="2597040"/>
            <a:ext cx="990720" cy="762120"/>
          </a:xfrm>
          <a:prstGeom prst="ellipse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12680"/>
            <a:ext cx="8153280" cy="527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Osaka"/>
              </a:rPr>
              <a:t>Model: Generation region and shape of pulsating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2000" y="129060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Osaka"/>
              </a:rPr>
              <a:t>Sato et al (2004,JG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91080" y="81108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  <a:ea typeface="Osaka"/>
              </a:rPr>
              <a:t>New evidences against Class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75760" y="38019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  <a:ea typeface="Osaka"/>
              </a:rPr>
              <a:t>Class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41680" y="5491080"/>
            <a:ext cx="23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dulation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50245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ape of aur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14880"/>
            <a:ext cx="8763120" cy="838440"/>
          </a:xfrm>
          <a:prstGeom prst="rect">
            <a:avLst/>
          </a:prstGeom>
          <a:solidFill>
            <a:srgbClr val="0a25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6151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Osaka"/>
              </a:rPr>
              <a:t>Modulation region is expected to be located near the Earth</a:t>
            </a:r>
            <a:r>
              <a:rPr b="1" lang="en-US" sz="2000" spc="-1" strike="noStrike">
                <a:solidFill>
                  <a:srgbClr val="ffffff"/>
                </a:solidFill>
                <a:latin typeface="ヒラギノ角ゴ Pro W3"/>
                <a:ea typeface="Osaka"/>
              </a:rPr>
              <a:t>_x0005_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Osaka"/>
              </a:rPr>
              <a:t>, so it is not necessary to perform “Conjugac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ulsating auror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" name=""/>
          <p:cNvSpPr/>
          <p:nvPr/>
        </p:nvSpPr>
        <p:spPr>
          <a:xfrm>
            <a:off x="134280" y="914400"/>
            <a:ext cx="8437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Observed universally during the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recovery phase of substorms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in the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auroral and subauroral zones. Especially, their activities are more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prominent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 in the morning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Typical period ranges from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a few seconds to a few tens of second.</a:t>
            </a:r>
            <a:br>
              <a:rPr sz="2000"/>
            </a:b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   patch of irregular shape or band-like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Modulated electron fluxes from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as low as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a few keV to 100 keV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are responsible for the phenom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Pitch angle diffusion due to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periodic occurrence of </a:t>
            </a:r>
            <a:r>
              <a:rPr b="0" lang="ja-JP" sz="2000" spc="-1" strike="noStrike">
                <a:solidFill>
                  <a:srgbClr val="ff0000"/>
                </a:solidFill>
                <a:latin typeface="Chalkboard"/>
              </a:rPr>
              <a:t>wave-</a:t>
            </a:r>
            <a:br>
              <a:rPr sz="2000"/>
            </a:br>
            <a:r>
              <a:rPr b="0" lang="ja-JP" sz="2000" spc="-1" strike="noStrike">
                <a:solidFill>
                  <a:srgbClr val="ff0000"/>
                </a:solidFill>
                <a:latin typeface="Chalkboard"/>
              </a:rPr>
              <a:t>  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particle interaction between</a:t>
            </a:r>
            <a:br>
              <a:rPr sz="2000"/>
            </a:b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   energetic electrons and whistler-</a:t>
            </a:r>
            <a:br>
              <a:rPr sz="2000"/>
            </a:b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   mode VLF waves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near the equatorial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magnetosphere can cause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pulsating aurora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(traditional mod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acintosh HD:Users:nsato34:Desktop:hosokawa_pulsation:20080309_023000_033000_10sec.mpeg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41148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3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ny role of ionosphere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Most of the conjugate observations of pulsating aurora demonstrated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that pulsating aurora appears in both hemispheres but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the shapes</a:t>
            </a:r>
            <a:br>
              <a:rPr sz="2000"/>
            </a:b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   are not necessarily the same and the pulsation periods are in many</a:t>
            </a:r>
            <a:br>
              <a:rPr sz="2000"/>
            </a:b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   instances different</a:t>
            </a:r>
            <a:r>
              <a:rPr b="0" lang="ja-JP" sz="2000" spc="-1" strike="noStrike">
                <a:solidFill>
                  <a:srgbClr val="ff0000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between the two hemispheres (Stenbaek-Nielsen,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1973; Sato et al., 1998, 2004; Watanabe et al., 2007), which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cannot</a:t>
            </a:r>
            <a:br>
              <a:rPr sz="2000"/>
            </a:b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   be explained by the traditional scenario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Stenbaek-Nelsen (1980), Sato et al (1998) and Tagirov (1999) have proposed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active ionospheric processes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which probably play an important (not crucial) role in causing pulsating auroras or characterizing their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However, the exact role played by the ionosphere is still uncert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To date,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variation of ionospheric electric field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, which is one of the 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most important parameters to describe the conditions of the auroral 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ionosphere,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associated with pulsating aurora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has not been investig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perimental arrangemen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7066" t="24948" r="16950" b="25160"/>
          <a:stretch/>
        </p:blipFill>
        <p:spPr>
          <a:xfrm>
            <a:off x="304920" y="1676520"/>
            <a:ext cx="441936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02120" y="1600200"/>
            <a:ext cx="37850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Radio measur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SuperDARN Pykkvibaer r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(63.86 N, 19.20 W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E-region mode (myopic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- spatial resolution: 15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- integration time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： 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2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for one beam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Optical measurement</a:t>
            </a:r>
            <a:r>
              <a:rPr b="0" lang="ja-JP" sz="2000" spc="-1" strike="noStrike">
                <a:solidFill>
                  <a:srgbClr val="ff0000"/>
                </a:solidFill>
                <a:latin typeface="Chalkboar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Tjornes (66.19 N, 17.93 W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All-sky TV camera with I-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- temporal resolution: </a:t>
            </a:r>
            <a:r>
              <a:rPr b="0" lang="ja-JP" sz="2000" spc="-1" strike="noStrike">
                <a:solidFill>
                  <a:srgbClr val="ff0000"/>
                </a:solidFill>
                <a:latin typeface="Chalkboard"/>
              </a:rPr>
              <a:t>3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6640" y="998640"/>
            <a:ext cx="741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00"/>
                </a:solidFill>
                <a:latin typeface="Chalkboard"/>
              </a:rPr>
              <a:t>SD E-region measurements</a:t>
            </a:r>
            <a:r>
              <a:rPr b="0" lang="ja-JP" sz="2200" spc="-1" strike="noStrike">
                <a:solidFill>
                  <a:srgbClr val="ff0000"/>
                </a:solidFill>
                <a:latin typeface="Chalkboard"/>
              </a:rPr>
              <a:t> </a:t>
            </a:r>
            <a:r>
              <a:rPr b="0" lang="ja-JP" sz="2200" spc="-1" strike="noStrike">
                <a:solidFill>
                  <a:srgbClr val="ffffff"/>
                </a:solidFill>
                <a:latin typeface="Chalkboard"/>
              </a:rPr>
              <a:t>+ </a:t>
            </a:r>
            <a:r>
              <a:rPr b="0" lang="ja-JP" sz="2200" spc="-1" strike="noStrike">
                <a:solidFill>
                  <a:srgbClr val="00ff00"/>
                </a:solidFill>
                <a:latin typeface="Chalkboard"/>
              </a:rPr>
              <a:t>All-sky TV camera of NIP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5480" y="533412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Chalkboard"/>
              </a:rPr>
              <a:t>Pykkviba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07800" y="434340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Chalkboard"/>
              </a:rPr>
              <a:t>Tjor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opic 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687" t="17150" r="3294" b="15024"/>
          <a:stretch/>
        </p:blipFill>
        <p:spPr>
          <a:xfrm>
            <a:off x="1112760" y="228600"/>
            <a:ext cx="588492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5400000">
            <a:off x="6910560" y="849240"/>
            <a:ext cx="120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halkboard"/>
              </a:rPr>
              <a:t>op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halkboard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rot="16200000">
            <a:off x="-135360" y="2338200"/>
            <a:ext cx="155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back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6924960" y="3758040"/>
            <a:ext cx="11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halkboard"/>
              </a:rPr>
              <a:t>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halkboard"/>
              </a:rPr>
              <a:t>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16200000">
            <a:off x="61920" y="516456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pec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5382360" y="3181320"/>
            <a:ext cx="62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ptical and radar data along beam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05040" y="393840"/>
            <a:ext cx="4443480" cy="260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2277" t="13391" r="8146" b="15163"/>
          <a:stretch/>
        </p:blipFill>
        <p:spPr>
          <a:xfrm>
            <a:off x="228600" y="609480"/>
            <a:ext cx="5105520" cy="594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62720" y="533520"/>
            <a:ext cx="3429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Chalkboard"/>
              </a:rPr>
              <a:t>blue: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optical pul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pulsating period: 8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Chalkboard"/>
              </a:rPr>
              <a:t>red: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radar pul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pulsating period: 8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(amplitude 100 m s</a:t>
            </a:r>
            <a:r>
              <a:rPr b="0" lang="ja-JP" sz="2000" spc="-1" strike="noStrike" baseline="30000">
                <a:solidFill>
                  <a:srgbClr val="ffff00"/>
                </a:solidFill>
                <a:latin typeface="Chalkboard"/>
              </a:rPr>
              <a:t>-1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halkboard"/>
              </a:rPr>
              <a:t>The line of sight Doppler velocity turns to positive (toward the radar) when the pulsating aurora is “ON” and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457200"/>
            <a:ext cx="37339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31360" y="903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3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6920" y="157320"/>
            <a:ext cx="3841560" cy="22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3415" t="6238" r="4432" b="9355"/>
          <a:stretch/>
        </p:blipFill>
        <p:spPr>
          <a:xfrm>
            <a:off x="4146480" y="152280"/>
            <a:ext cx="4845240" cy="6477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17066" t="24948" r="16950" b="25160"/>
          <a:stretch/>
        </p:blipFill>
        <p:spPr>
          <a:xfrm>
            <a:off x="196920" y="2438280"/>
            <a:ext cx="3832200" cy="4191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3613" t="56664" r="10823" b="15759"/>
          <a:stretch/>
        </p:blipFill>
        <p:spPr>
          <a:xfrm>
            <a:off x="209520" y="533520"/>
            <a:ext cx="382896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6320" y="15228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 f j m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80880"/>
            <a:ext cx="1054080" cy="1006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75080" y="2876400"/>
            <a:ext cx="1054080" cy="1006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67160" y="4100400"/>
            <a:ext cx="1054080" cy="1006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70880" y="4119480"/>
            <a:ext cx="1054080" cy="1006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51800" y="5357880"/>
            <a:ext cx="1054080" cy="1006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7640" y="1711440"/>
            <a:ext cx="27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halkboard"/>
              </a:rPr>
              <a:t>blue: optical         </a:t>
            </a:r>
            <a:r>
              <a:rPr b="0" lang="en-US" sz="1600" spc="-1" strike="noStrike">
                <a:solidFill>
                  <a:srgbClr val="ff0000"/>
                </a:solidFill>
                <a:latin typeface="Chalkboard"/>
              </a:rPr>
              <a:t>red: 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85800">
            <a:off x="1286280" y="41191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halkboard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1489600">
            <a:off x="5162760" y="243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halkboard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533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6858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re is the origin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"/>
          <p:cNvSpPr/>
          <p:nvPr/>
        </p:nvSpPr>
        <p:spPr>
          <a:xfrm>
            <a:off x="223920" y="914400"/>
            <a:ext cx="8915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Is this electric field oscillation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a magnetospheric signal</a:t>
            </a:r>
            <a:r>
              <a:rPr b="0" lang="ja-JP" sz="2000" spc="-1" strike="noStrike">
                <a:solidFill>
                  <a:srgbClr val="ff0000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vital to the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mechanism that precipitates the electrons or just</a:t>
            </a:r>
            <a:r>
              <a:rPr b="0" lang="ja-JP" sz="2000" spc="-1" strike="noStrike">
                <a:solidFill>
                  <a:srgbClr val="ff0000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a consequence of</a:t>
            </a:r>
            <a:br>
              <a:rPr sz="2000"/>
            </a:b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   local current system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produced by the precipi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If its origin is in the magnetosphere, its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phase should be delayed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by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as much as a few tens of seconds, depending on where along the field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line source of the wave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During the interval under study, however, we cannot identify 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considerable time delay between optical and radar puls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This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rules out a magnetospheric source for the electric field oscillation.</a:t>
            </a:r>
            <a:br>
              <a:rPr sz="2000"/>
            </a:b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Thus, we propose that the electric field oscillation associated with</a:t>
            </a: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  the pulsating aurora studied here is </a:t>
            </a: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the result of a local current</a:t>
            </a:r>
            <a:br>
              <a:rPr sz="2000"/>
            </a:br>
            <a:r>
              <a:rPr b="0" lang="ja-JP" sz="2000" spc="-1" strike="noStrike">
                <a:solidFill>
                  <a:srgbClr val="ffff00"/>
                </a:solidFill>
                <a:latin typeface="Chalkboard"/>
              </a:rPr>
              <a:t>   system generated by enhanced conductivity in the lower ionosphere.</a:t>
            </a:r>
            <a:r>
              <a:rPr b="0" lang="ja-JP" sz="2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lationship between the observed parameter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263880" y="48204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halkboard"/>
              </a:rPr>
              <a:t>SuperD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Chalkboard"/>
              </a:rPr>
              <a:t>Poleward electric field appears when the pulsating is “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00"/>
                </a:solidFill>
                <a:latin typeface="Chalkboard"/>
              </a:rPr>
              <a:t>electric field is directed equatorward when the pulsating aurora is “OF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940280" y="1981080"/>
            <a:ext cx="3976560" cy="4572000"/>
            <a:chOff x="4940280" y="1981080"/>
            <a:chExt cx="3976560" cy="4572000"/>
          </a:xfrm>
        </p:grpSpPr>
        <p:sp>
          <p:nvSpPr>
            <p:cNvPr id="85" name=""/>
            <p:cNvSpPr/>
            <p:nvPr/>
          </p:nvSpPr>
          <p:spPr>
            <a:xfrm>
              <a:off x="4940280" y="1981080"/>
              <a:ext cx="3976560" cy="45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rcRect l="21187" t="29400" r="23068" b="26660"/>
            <a:stretch/>
          </p:blipFill>
          <p:spPr>
            <a:xfrm>
              <a:off x="5090400" y="2167200"/>
              <a:ext cx="3759120" cy="4324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7" name=""/>
          <p:cNvGraphicFramePr/>
          <p:nvPr/>
        </p:nvGraphicFramePr>
        <p:xfrm>
          <a:off x="304920" y="2022480"/>
          <a:ext cx="4419360" cy="4521240"/>
        </p:xfrm>
        <a:graphic>
          <a:graphicData uri="http://schemas.openxmlformats.org/drawingml/2006/table">
            <a:tbl>
              <a:tblPr/>
              <a:tblGrid>
                <a:gridCol w="609480"/>
                <a:gridCol w="1103400"/>
                <a:gridCol w="1334880"/>
                <a:gridCol w="1371600"/>
              </a:tblGrid>
              <a:tr h="642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ulsating aur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8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halkboard"/>
                        </a:rPr>
                        <a:t>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Chalkboard"/>
                        </a:rPr>
                        <a:t>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V</a:t>
                      </a:r>
                      <a:r>
                        <a:rPr b="0" lang="ja-JP" sz="2400" spc="-1" strike="noStrike" baseline="-25000">
                          <a:solidFill>
                            <a:srgbClr val="ffffff"/>
                          </a:solidFill>
                          <a:latin typeface="Chalkboard"/>
                        </a:rPr>
                        <a:t>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halkboard"/>
                        </a:rPr>
                        <a:t>tow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Chalkboard"/>
                        </a:rPr>
                        <a:t>a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V</a:t>
                      </a:r>
                      <a:r>
                        <a:rPr b="0" lang="ja-JP" sz="2400" spc="-1" strike="noStrike" baseline="-25000">
                          <a:solidFill>
                            <a:srgbClr val="ffffff"/>
                          </a:solidFill>
                          <a:latin typeface="Chalkboard"/>
                        </a:rPr>
                        <a:t>z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halkboard"/>
                        </a:rPr>
                        <a:t>w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halkboard"/>
                        </a:rPr>
                        <a:t>w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Chalkboard"/>
                        </a:rPr>
                        <a:t>e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Chalkboard"/>
                        </a:rPr>
                        <a:t>w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</a:t>
                      </a:r>
                      <a:r>
                        <a:rPr b="0" lang="ja-JP" sz="2400" spc="-1" strike="noStrike" baseline="-25000">
                          <a:solidFill>
                            <a:srgbClr val="ffffff"/>
                          </a:solidFill>
                          <a:latin typeface="Chalkboard"/>
                        </a:rPr>
                        <a:t>mer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halkboard"/>
                        </a:rPr>
                        <a:t>nor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halkboard"/>
                        </a:rPr>
                        <a:t>w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Chalkboard"/>
                        </a:rPr>
                        <a:t>sou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Chalkboard"/>
                        </a:rPr>
                        <a:t>w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6103440" y="3305160"/>
            <a:ext cx="1664640" cy="2153880"/>
            <a:chOff x="6103440" y="3305160"/>
            <a:chExt cx="1664640" cy="2153880"/>
          </a:xfrm>
        </p:grpSpPr>
        <p:grpSp>
          <p:nvGrpSpPr>
            <p:cNvPr id="89" name=""/>
            <p:cNvGrpSpPr/>
            <p:nvPr/>
          </p:nvGrpSpPr>
          <p:grpSpPr>
            <a:xfrm>
              <a:off x="6103440" y="3798360"/>
              <a:ext cx="1328400" cy="1660680"/>
              <a:chOff x="6103440" y="3798360"/>
              <a:chExt cx="1328400" cy="1660680"/>
            </a:xfrm>
          </p:grpSpPr>
          <p:sp>
            <p:nvSpPr>
              <p:cNvPr id="90" name=""/>
              <p:cNvSpPr/>
              <p:nvPr/>
            </p:nvSpPr>
            <p:spPr>
              <a:xfrm flipV="1">
                <a:off x="6764760" y="3798360"/>
                <a:ext cx="667080" cy="834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6103440" y="4624920"/>
                <a:ext cx="667800" cy="834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7166880" y="33051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halkboard"/>
                </a:rPr>
                <a:t>V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Chalkboard"/>
                </a:rPr>
                <a:t>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807520" y="3973680"/>
            <a:ext cx="2788920" cy="1110600"/>
            <a:chOff x="5807520" y="3973680"/>
            <a:chExt cx="2788920" cy="1110600"/>
          </a:xfrm>
        </p:grpSpPr>
        <p:grpSp>
          <p:nvGrpSpPr>
            <p:cNvPr id="94" name=""/>
            <p:cNvGrpSpPr/>
            <p:nvPr/>
          </p:nvGrpSpPr>
          <p:grpSpPr>
            <a:xfrm>
              <a:off x="5807520" y="4168800"/>
              <a:ext cx="1920240" cy="915480"/>
              <a:chOff x="5807520" y="4168800"/>
              <a:chExt cx="1920240" cy="915480"/>
            </a:xfrm>
          </p:grpSpPr>
          <p:sp>
            <p:nvSpPr>
              <p:cNvPr id="95" name=""/>
              <p:cNvSpPr/>
              <p:nvPr/>
            </p:nvSpPr>
            <p:spPr>
              <a:xfrm flipV="1">
                <a:off x="6763680" y="4168800"/>
                <a:ext cx="964080" cy="459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5807520" y="4624920"/>
                <a:ext cx="964800" cy="459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787880" y="3973680"/>
              <a:ext cx="80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halkboard"/>
                </a:rPr>
                <a:t>V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Chalkboard"/>
                </a:rPr>
                <a:t>z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872320" y="3135240"/>
            <a:ext cx="1248120" cy="2496600"/>
            <a:chOff x="5872320" y="3135240"/>
            <a:chExt cx="1248120" cy="2496600"/>
          </a:xfrm>
        </p:grpSpPr>
        <p:grpSp>
          <p:nvGrpSpPr>
            <p:cNvPr id="99" name=""/>
            <p:cNvGrpSpPr/>
            <p:nvPr/>
          </p:nvGrpSpPr>
          <p:grpSpPr>
            <a:xfrm>
              <a:off x="6410160" y="3626640"/>
              <a:ext cx="710280" cy="2005200"/>
              <a:chOff x="6410160" y="3626640"/>
              <a:chExt cx="710280" cy="2005200"/>
            </a:xfrm>
          </p:grpSpPr>
          <p:sp>
            <p:nvSpPr>
              <p:cNvPr id="100" name=""/>
              <p:cNvSpPr/>
              <p:nvPr/>
            </p:nvSpPr>
            <p:spPr>
              <a:xfrm>
                <a:off x="6763680" y="4624920"/>
                <a:ext cx="356760" cy="1006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6410160" y="3626640"/>
                <a:ext cx="356400" cy="1007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5872320" y="3135240"/>
              <a:ext cx="84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halkboard"/>
                </a:rPr>
                <a:t>E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Chalkboard"/>
                </a:rPr>
                <a:t>mer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621480" y="4468680"/>
            <a:ext cx="304920" cy="289080"/>
          </a:xfrm>
          <a:prstGeom prst="star5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9:43:48Z</dcterms:created>
  <dc:creator>細川 敬祐</dc:creator>
  <dc:description/>
  <dc:language>en-US</dc:language>
  <cp:lastModifiedBy>佐藤 夏雄</cp:lastModifiedBy>
  <dcterms:modified xsi:type="dcterms:W3CDTF">2008-06-03T01:33:57Z</dcterms:modified>
  <cp:revision>78</cp:revision>
  <dc:subject/>
  <dc:title>Remote Sensing of Northern Lights with Ground-based Radar</dc:title>
</cp:coreProperties>
</file>