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395A-CB8F-49A5-9046-D29D3FC69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B943-ADA4-4896-8713-2373221B8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CA31-6F5C-4AE1-87A7-D1DC73A85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560D-B046-4DF7-9DA2-C2B829E6A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F6CC-0794-4960-AD67-2723460EC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8A4D-A756-41CE-A9D4-5DA8CFE6F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3582-1CD8-4F42-83D1-75533168A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F7E8-9332-47AF-84C0-3A65BA0AC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A125-B954-435D-B297-2D9CCC6569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4164-C8A8-4B3E-9C48-4A8613B8E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2443-93F8-4DA2-9257-8C90C89A2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92AE-30CD-4DB3-B1C7-53F603CAF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2F06-292E-4081-A4F3-DFF48EAF5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DDC5-3EAA-4121-8489-6C3E0500E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6036-ADE5-4B6A-8029-B85D2B7EC1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CC76-D899-4ECD-8126-E8F35EF3A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489C-088C-4C20-9CA2-2C342BA21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CB5B-41C0-4325-B5FE-95A83AF2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B924-A86C-440F-9E4D-69B944FD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E15-D892-4CD4-B047-97220264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E29D-33B2-4EC4-B249-7B9AF3A5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318-3ABA-4C3C-B383-E7EC0DAF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8EC2-80E6-424B-BA4F-3DF97278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5DF1-9E94-4E6E-BB3E-2F2196B7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A110-D235-4B48-AB27-05794078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D922-139A-4010-98AD-CBA0566A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4FB8-EAD5-4B3E-B5A9-857B6181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0978-5428-4338-9BB2-416DC50C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67FA-2348-4556-ACF4-091ED0C4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6F81-E1C5-48EC-951D-07565B901D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ay.greenwald@vt.ed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orm impacts on inner magnetosphere conv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18284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 A. Greenwal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. M. Ruohoniem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J. B. Bake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and M. Leste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E. Talaa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. Barne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 of Electrical and Computer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ginia Te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sburg, VA, 24060, 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f5f5f"/>
                </a:solidFill>
                <a:uFillTx/>
                <a:latin typeface="Times New Roman"/>
                <a:ea typeface="Times New Roman"/>
                <a:hlinkClick r:id="rId1"/>
              </a:rPr>
              <a:t>ray.greenwald@vt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 of Phys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Leice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cester, LE1 7RH, 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HU/A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rel, MD 20723,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274680"/>
            <a:ext cx="8458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quence of Four Scans of Blackstone Rad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field-of-view(3-27-08)0245.jpg"/>
          <p:cNvPicPr/>
          <p:nvPr/>
        </p:nvPicPr>
        <p:blipFill>
          <a:blip r:embed="rId1"/>
          <a:stretch/>
        </p:blipFill>
        <p:spPr>
          <a:xfrm>
            <a:off x="1741320" y="1149480"/>
            <a:ext cx="5650200" cy="56322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76320" y="51814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rapid onset of enhanced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Straight Arrow Connector 5"/>
          <p:cNvCxnSpPr/>
          <p:nvPr/>
        </p:nvCxnSpPr>
        <p:spPr>
          <a:xfrm flipV="1">
            <a:off x="1218960" y="5562000"/>
            <a:ext cx="160092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5-Point Star 6"/>
          <p:cNvSpPr/>
          <p:nvPr/>
        </p:nvSpPr>
        <p:spPr>
          <a:xfrm>
            <a:off x="2895480" y="5029200"/>
            <a:ext cx="76320" cy="76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2895480" y="4952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il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Case 2: Magnetic Observations on April 25, 2008</a:t>
            </a:r>
            <a:br>
              <a:rPr sz="2900"/>
            </a:br>
            <a:r>
              <a:rPr b="0" i="1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Kp=3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C:\Documents and Settings\ray.greenwald\Desktop\GOES12_K0_MAG_8211_001.jpg"/>
          <p:cNvPicPr/>
          <p:nvPr/>
        </p:nvPicPr>
        <p:blipFill>
          <a:blip r:embed="rId1"/>
          <a:stretch/>
        </p:blipFill>
        <p:spPr>
          <a:xfrm>
            <a:off x="838080" y="1066680"/>
            <a:ext cx="7086600" cy="3133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Documents and Settings\ray.greenwald\Desktop\OTT2008Apr2500240b_plot.jpg"/>
          <p:cNvPicPr/>
          <p:nvPr/>
        </p:nvPicPr>
        <p:blipFill>
          <a:blip r:embed="rId2"/>
          <a:stretch/>
        </p:blipFill>
        <p:spPr>
          <a:xfrm>
            <a:off x="58680" y="4127400"/>
            <a:ext cx="4437000" cy="2730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Documents and Settings\ray.greenwald\Desktop\STJ2008Apr2500240b_plot.jpg"/>
          <p:cNvPicPr/>
          <p:nvPr/>
        </p:nvPicPr>
        <p:blipFill>
          <a:blip r:embed="rId3"/>
          <a:stretch/>
        </p:blipFill>
        <p:spPr>
          <a:xfrm>
            <a:off x="4495680" y="4114800"/>
            <a:ext cx="4457880" cy="27432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6"/>
          <p:cNvSpPr/>
          <p:nvPr/>
        </p:nvSpPr>
        <p:spPr>
          <a:xfrm>
            <a:off x="5616360" y="137160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ES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2670840" y="64771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ta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6324480" y="6095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. Jo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838080" y="4267080"/>
            <a:ext cx="304920" cy="213372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5334120" y="4267080"/>
            <a:ext cx="228600" cy="16002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3048120" y="1295280"/>
            <a:ext cx="2971800" cy="22860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se 2: Magnetic Data From Greenland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46160" y="1600200"/>
            <a:ext cx="8769240" cy="4981680"/>
            <a:chOff x="146160" y="1600200"/>
            <a:chExt cx="8769240" cy="4981680"/>
          </a:xfrm>
        </p:grpSpPr>
        <p:pic>
          <p:nvPicPr>
            <p:cNvPr id="130" name="Picture 4" descr=""/>
            <p:cNvPicPr/>
            <p:nvPr/>
          </p:nvPicPr>
          <p:blipFill>
            <a:blip r:embed="rId1"/>
            <a:stretch/>
          </p:blipFill>
          <p:spPr>
            <a:xfrm>
              <a:off x="146160" y="3047760"/>
              <a:ext cx="876924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5" descr=""/>
            <p:cNvPicPr/>
            <p:nvPr/>
          </p:nvPicPr>
          <p:blipFill>
            <a:blip r:embed="rId2"/>
            <a:stretch/>
          </p:blipFill>
          <p:spPr>
            <a:xfrm>
              <a:off x="146160" y="1600200"/>
              <a:ext cx="8769240" cy="1295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Group 7"/>
            <p:cNvGrpSpPr/>
            <p:nvPr/>
          </p:nvGrpSpPr>
          <p:grpSpPr>
            <a:xfrm>
              <a:off x="152280" y="4648320"/>
              <a:ext cx="8742600" cy="1933560"/>
              <a:chOff x="152280" y="4648320"/>
              <a:chExt cx="8742600" cy="1933560"/>
            </a:xfrm>
          </p:grpSpPr>
          <p:pic>
            <p:nvPicPr>
              <p:cNvPr id="13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52280" y="4648320"/>
                <a:ext cx="8742600" cy="12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6" descr=""/>
              <p:cNvPicPr/>
              <p:nvPr/>
            </p:nvPicPr>
            <p:blipFill>
              <a:blip r:embed="rId4"/>
              <a:stretch/>
            </p:blipFill>
            <p:spPr>
              <a:xfrm>
                <a:off x="1218960" y="6032520"/>
                <a:ext cx="7086960" cy="54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5" name="Rectangle 9"/>
          <p:cNvSpPr/>
          <p:nvPr/>
        </p:nvSpPr>
        <p:spPr>
          <a:xfrm>
            <a:off x="1676520" y="1828800"/>
            <a:ext cx="685800" cy="41148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allops and Blackstone Time Ser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ril 25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C:\Documents and Settings\ray.greenwald\Desktop\WALBKS-20080425(00-06)ts.jpg"/>
          <p:cNvPicPr/>
          <p:nvPr/>
        </p:nvPicPr>
        <p:blipFill>
          <a:blip r:embed="rId1"/>
          <a:stretch/>
        </p:blipFill>
        <p:spPr>
          <a:xfrm>
            <a:off x="838080" y="1295280"/>
            <a:ext cx="73328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lackstone/Wallops View of Plasma Flow Bursts Across North Ame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90640" y="1143000"/>
            <a:ext cx="56008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814400" y="457200"/>
          <a:ext cx="580572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4400" y="457200"/>
                    <a:ext cx="58057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have examined two substorms identified by their magnetic and optical signatu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Wallops and Blackstone radars observe enhanced plasma flows in the nighttime subauroral ionosphere  ~5-10 minutes after substorm ons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hanced flows endured throughout the expansion pha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storm injections presumably modify pressure gradients in inner magnetosphere leading to inner magnetosphere electric fields and plasma convec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se transient flow enhancements are a common feature of subauroral plasma convection and occur over a wide range of magnetospheric disturbance leve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s?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52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substorms affect inner magnetosphere conve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substorms contribute to penetration electric field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ypes of  velocity changes occu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local time extent of the effect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the time delay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ir duratio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s most likely be observed in the nighttime ion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may need to differentiate ground scatter from low velocity ionospheric sc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examine two events identified with magnetic and/or optical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Quiescent State - Day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152280" y="1143000"/>
            <a:ext cx="8915400" cy="5562720"/>
            <a:chOff x="152280" y="1143000"/>
            <a:chExt cx="8915400" cy="5562720"/>
          </a:xfrm>
        </p:grpSpPr>
        <p:pic>
          <p:nvPicPr>
            <p:cNvPr id="54" name="Picture 4" descr="ocean scatter"/>
            <p:cNvPicPr/>
            <p:nvPr/>
          </p:nvPicPr>
          <p:blipFill>
            <a:blip r:embed="rId1"/>
            <a:stretch/>
          </p:blipFill>
          <p:spPr>
            <a:xfrm>
              <a:off x="152280" y="1143000"/>
              <a:ext cx="7620120" cy="55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6"/>
            <p:cNvSpPr/>
            <p:nvPr/>
          </p:nvSpPr>
          <p:spPr>
            <a:xfrm>
              <a:off x="6954120" y="5562720"/>
              <a:ext cx="20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tral width &lt; 30 m/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7"/>
            <p:cNvSpPr/>
            <p:nvPr/>
          </p:nvSpPr>
          <p:spPr>
            <a:xfrm>
              <a:off x="7070760" y="3962520"/>
              <a:ext cx="1996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locity &lt; 40 m/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ey indicates ground or  ocean scat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8"/>
            <p:cNvSpPr/>
            <p:nvPr/>
          </p:nvSpPr>
          <p:spPr>
            <a:xfrm>
              <a:off x="7070760" y="2422440"/>
              <a:ext cx="199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gnificant backscatt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bserved to 5000 k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Quiescent State - Nightti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5"/>
          <p:cNvGrpSpPr/>
          <p:nvPr/>
        </p:nvGrpSpPr>
        <p:grpSpPr>
          <a:xfrm>
            <a:off x="152280" y="1246320"/>
            <a:ext cx="8763120" cy="5459400"/>
            <a:chOff x="152280" y="1246320"/>
            <a:chExt cx="8763120" cy="5459400"/>
          </a:xfrm>
        </p:grpSpPr>
        <p:pic>
          <p:nvPicPr>
            <p:cNvPr id="60" name="Picture 6" descr="TGI irregularities"/>
            <p:cNvPicPr/>
            <p:nvPr/>
          </p:nvPicPr>
          <p:blipFill>
            <a:blip r:embed="rId1"/>
            <a:stretch/>
          </p:blipFill>
          <p:spPr>
            <a:xfrm>
              <a:off x="152280" y="1246320"/>
              <a:ext cx="6858000" cy="54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/>
            <p:cNvSpPr/>
            <p:nvPr/>
          </p:nvSpPr>
          <p:spPr>
            <a:xfrm>
              <a:off x="6629400" y="2541600"/>
              <a:ext cx="2133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inuous scatter throughout nighttime hou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8"/>
            <p:cNvSpPr/>
            <p:nvPr/>
          </p:nvSpPr>
          <p:spPr>
            <a:xfrm>
              <a:off x="6629400" y="3989520"/>
              <a:ext cx="228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w Doppler velocities except for one brief peri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9"/>
            <p:cNvSpPr/>
            <p:nvPr/>
          </p:nvSpPr>
          <p:spPr>
            <a:xfrm>
              <a:off x="6521760" y="5557680"/>
              <a:ext cx="21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w spectral widt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ighttime Scatter</a:t>
            </a:r>
            <a:br>
              <a:rPr sz="36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ound-Scatter Flag O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5"/>
          <p:cNvGrpSpPr/>
          <p:nvPr/>
        </p:nvGrpSpPr>
        <p:grpSpPr>
          <a:xfrm>
            <a:off x="0" y="1182600"/>
            <a:ext cx="8991360" cy="5561640"/>
            <a:chOff x="0" y="1182600"/>
            <a:chExt cx="8991360" cy="5561640"/>
          </a:xfrm>
        </p:grpSpPr>
        <p:grpSp>
          <p:nvGrpSpPr>
            <p:cNvPr id="66" name="Group 6"/>
            <p:cNvGrpSpPr/>
            <p:nvPr/>
          </p:nvGrpSpPr>
          <p:grpSpPr>
            <a:xfrm>
              <a:off x="0" y="1182600"/>
              <a:ext cx="7677000" cy="5561640"/>
              <a:chOff x="0" y="1182600"/>
              <a:chExt cx="7677000" cy="5561640"/>
            </a:xfrm>
          </p:grpSpPr>
          <p:pic>
            <p:nvPicPr>
              <p:cNvPr id="67" name="Picture 7" descr="Jan 23-2006t"/>
              <p:cNvPicPr/>
              <p:nvPr/>
            </p:nvPicPr>
            <p:blipFill>
              <a:blip r:embed="rId1"/>
              <a:stretch/>
            </p:blipFill>
            <p:spPr>
              <a:xfrm>
                <a:off x="0" y="3778200"/>
                <a:ext cx="7677000" cy="13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Picture 8" descr="Jan 22-2006t"/>
              <p:cNvPicPr/>
              <p:nvPr/>
            </p:nvPicPr>
            <p:blipFill>
              <a:blip r:embed="rId2"/>
              <a:stretch/>
            </p:blipFill>
            <p:spPr>
              <a:xfrm>
                <a:off x="0" y="2442960"/>
                <a:ext cx="7677000" cy="13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Picture 9" descr="Jan 21-2006t"/>
              <p:cNvPicPr/>
              <p:nvPr/>
            </p:nvPicPr>
            <p:blipFill>
              <a:blip r:embed="rId3"/>
              <a:stretch/>
            </p:blipFill>
            <p:spPr>
              <a:xfrm>
                <a:off x="0" y="1182600"/>
                <a:ext cx="7677000" cy="1260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" name="Group 10"/>
              <p:cNvGrpSpPr/>
              <p:nvPr/>
            </p:nvGrpSpPr>
            <p:grpSpPr>
              <a:xfrm>
                <a:off x="0" y="5113080"/>
                <a:ext cx="7677000" cy="1631160"/>
                <a:chOff x="0" y="5113080"/>
                <a:chExt cx="7677000" cy="1631160"/>
              </a:xfrm>
            </p:grpSpPr>
            <p:pic>
              <p:nvPicPr>
                <p:cNvPr id="71" name="Picture 1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5113080"/>
                  <a:ext cx="7677000" cy="1409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" name="Text Box 12"/>
                <p:cNvSpPr/>
                <p:nvPr/>
              </p:nvSpPr>
              <p:spPr>
                <a:xfrm>
                  <a:off x="2896560" y="52614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Text Box 13"/>
                <p:cNvSpPr/>
                <p:nvPr/>
              </p:nvSpPr>
              <p:spPr>
                <a:xfrm>
                  <a:off x="4275000" y="5261400"/>
                  <a:ext cx="360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8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Text Box 14"/>
                <p:cNvSpPr/>
                <p:nvPr/>
              </p:nvSpPr>
              <p:spPr>
                <a:xfrm>
                  <a:off x="1377360" y="5261400"/>
                  <a:ext cx="412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6+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5" name="Picture 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34520" y="6506640"/>
                  <a:ext cx="630108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Text Box 16"/>
                <p:cNvSpPr/>
                <p:nvPr/>
              </p:nvSpPr>
              <p:spPr>
                <a:xfrm>
                  <a:off x="5650920" y="5261400"/>
                  <a:ext cx="412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6+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" name="Text Box 17"/>
            <p:cNvSpPr/>
            <p:nvPr/>
          </p:nvSpPr>
          <p:spPr>
            <a:xfrm>
              <a:off x="1371600" y="3927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18"/>
            <p:cNvSpPr/>
            <p:nvPr/>
          </p:nvSpPr>
          <p:spPr>
            <a:xfrm>
              <a:off x="2914560" y="3927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19"/>
            <p:cNvSpPr/>
            <p:nvPr/>
          </p:nvSpPr>
          <p:spPr>
            <a:xfrm>
              <a:off x="4281480" y="3911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20"/>
            <p:cNvSpPr/>
            <p:nvPr/>
          </p:nvSpPr>
          <p:spPr>
            <a:xfrm>
              <a:off x="5743440" y="3895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21"/>
            <p:cNvSpPr/>
            <p:nvPr/>
          </p:nvSpPr>
          <p:spPr>
            <a:xfrm>
              <a:off x="1355760" y="2560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22"/>
            <p:cNvSpPr/>
            <p:nvPr/>
          </p:nvSpPr>
          <p:spPr>
            <a:xfrm>
              <a:off x="2965320" y="2560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23"/>
            <p:cNvSpPr/>
            <p:nvPr/>
          </p:nvSpPr>
          <p:spPr>
            <a:xfrm>
              <a:off x="4281480" y="2560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24"/>
            <p:cNvSpPr/>
            <p:nvPr/>
          </p:nvSpPr>
          <p:spPr>
            <a:xfrm>
              <a:off x="5743440" y="2576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5"/>
            <p:cNvSpPr/>
            <p:nvPr/>
          </p:nvSpPr>
          <p:spPr>
            <a:xfrm>
              <a:off x="1355760" y="1315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26"/>
            <p:cNvSpPr/>
            <p:nvPr/>
          </p:nvSpPr>
          <p:spPr>
            <a:xfrm>
              <a:off x="2965320" y="1315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27"/>
            <p:cNvSpPr/>
            <p:nvPr/>
          </p:nvSpPr>
          <p:spPr>
            <a:xfrm>
              <a:off x="4281480" y="1315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28"/>
            <p:cNvSpPr/>
            <p:nvPr/>
          </p:nvSpPr>
          <p:spPr>
            <a:xfrm>
              <a:off x="5692680" y="1315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29"/>
            <p:cNvSpPr/>
            <p:nvPr/>
          </p:nvSpPr>
          <p:spPr>
            <a:xfrm>
              <a:off x="7510320" y="1463400"/>
              <a:ext cx="1481040" cy="49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an 21, 20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am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an 22, 20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am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an 23, 20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am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pt 11, 20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am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se 1: March 27, 2008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OES 12 Magnetomete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GOES12_K0_MAG_03272008.jpg"/>
          <p:cNvPicPr/>
          <p:nvPr/>
        </p:nvPicPr>
        <p:blipFill>
          <a:blip r:embed="rId1"/>
          <a:stretch/>
        </p:blipFill>
        <p:spPr>
          <a:xfrm>
            <a:off x="0" y="1447920"/>
            <a:ext cx="8982000" cy="377352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2687040" y="26668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dipolarization at ~0230 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Straight Arrow Connector 5"/>
          <p:cNvCxnSpPr/>
          <p:nvPr/>
        </p:nvCxnSpPr>
        <p:spPr>
          <a:xfrm>
            <a:off x="4724280" y="2971800"/>
            <a:ext cx="915120" cy="9914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se 1: Gillam All-Sky Camera Imag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90560" y="1343160"/>
            <a:ext cx="7562880" cy="460044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1461600" y="15238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200-0300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458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se 1: Churchill Chain Magnetome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C:\Documents and Settings\ray.greenwald\Desktop\20080327(0-6)Mags_X.jpg"/>
          <p:cNvPicPr/>
          <p:nvPr/>
        </p:nvPicPr>
        <p:blipFill>
          <a:blip r:embed="rId1"/>
          <a:stretch/>
        </p:blipFill>
        <p:spPr>
          <a:xfrm>
            <a:off x="304920" y="1143000"/>
            <a:ext cx="8424720" cy="54100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3886200" y="2057400"/>
            <a:ext cx="380880" cy="3657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BKS20080327(0200-0300).jpg"/>
          <p:cNvPicPr/>
          <p:nvPr/>
        </p:nvPicPr>
        <p:blipFill>
          <a:blip r:embed="rId1"/>
          <a:stretch/>
        </p:blipFill>
        <p:spPr>
          <a:xfrm>
            <a:off x="2766960" y="3886200"/>
            <a:ext cx="5234040" cy="2971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ackstone Nighttime Observations During Minor Storm (Kp=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BKS20080327(0-4).jpg"/>
          <p:cNvPicPr/>
          <p:nvPr/>
        </p:nvPicPr>
        <p:blipFill>
          <a:blip r:embed="rId2"/>
          <a:srcRect l="0" t="0" r="-12679" b="60005"/>
          <a:stretch/>
        </p:blipFill>
        <p:spPr>
          <a:xfrm>
            <a:off x="685800" y="1600200"/>
            <a:ext cx="7391520" cy="27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3" name="Picture 2" descr=""/>
          <p:cNvPicPr/>
          <p:nvPr/>
        </p:nvPicPr>
        <p:blipFill>
          <a:blip r:embed="rId3"/>
          <a:stretch/>
        </p:blipFill>
        <p:spPr>
          <a:xfrm>
            <a:off x="4567320" y="3352680"/>
            <a:ext cx="9360" cy="152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ray.greenwald\Desktop\20080327 Substorm\BKS20080327(0-4).jpg"/>
          <p:cNvPicPr/>
          <p:nvPr/>
        </p:nvPicPr>
        <p:blipFill>
          <a:blip r:embed="rId4"/>
          <a:srcRect l="0" t="0" r="0" b="60805"/>
          <a:stretch/>
        </p:blipFill>
        <p:spPr>
          <a:xfrm>
            <a:off x="977760" y="1219320"/>
            <a:ext cx="7251840" cy="2971800"/>
          </a:xfrm>
          <a:prstGeom prst="rect">
            <a:avLst/>
          </a:prstGeom>
          <a:ln w="0">
            <a:noFill/>
          </a:ln>
        </p:spPr>
      </p:pic>
      <p:sp>
        <p:nvSpPr>
          <p:cNvPr id="105" name="Straight Connector 11"/>
          <p:cNvSpPr/>
          <p:nvPr/>
        </p:nvSpPr>
        <p:spPr>
          <a:xfrm flipH="1">
            <a:off x="3276360" y="38098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13"/>
          <p:cNvSpPr/>
          <p:nvPr/>
        </p:nvSpPr>
        <p:spPr>
          <a:xfrm>
            <a:off x="5867280" y="37339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21"/>
          <p:cNvSpPr/>
          <p:nvPr/>
        </p:nvSpPr>
        <p:spPr>
          <a:xfrm>
            <a:off x="4498920" y="441972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am 7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Straight Arrow Connector 22"/>
          <p:cNvCxnSpPr/>
          <p:nvPr/>
        </p:nvCxnSpPr>
        <p:spPr>
          <a:xfrm>
            <a:off x="5486400" y="4648320"/>
            <a:ext cx="915120" cy="915120"/>
          </a:xfrm>
          <a:prstGeom prst="straightConnector1">
            <a:avLst/>
          </a:prstGeom>
          <a:ln w="9360">
            <a:solidFill>
              <a:srgbClr val="d8d8d8"/>
            </a:solidFill>
            <a:miter/>
            <a:tailEnd len="med" type="arrow" w="med"/>
          </a:ln>
        </p:spPr>
      </p:cxnSp>
      <p:cxnSp>
        <p:nvCxnSpPr>
          <p:cNvPr id="109" name="Straight Arrow Connector 23"/>
          <p:cNvCxnSpPr/>
          <p:nvPr/>
        </p:nvCxnSpPr>
        <p:spPr>
          <a:xfrm>
            <a:off x="5638680" y="4800600"/>
            <a:ext cx="915120" cy="915120"/>
          </a:xfrm>
          <a:prstGeom prst="straightConnector1">
            <a:avLst/>
          </a:prstGeom>
          <a:ln w="9360">
            <a:solidFill>
              <a:srgbClr val="d8d8d8"/>
            </a:solidFill>
            <a:miter/>
            <a:tailEnd len="med" type="arrow" w="med"/>
          </a:ln>
        </p:spPr>
      </p:cxnSp>
      <p:sp>
        <p:nvSpPr>
          <p:cNvPr id="110" name="TextBox 12"/>
          <p:cNvSpPr/>
          <p:nvPr/>
        </p:nvSpPr>
        <p:spPr>
          <a:xfrm>
            <a:off x="1066680" y="4495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IS Camping 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5105520" y="4343400"/>
            <a:ext cx="1143000" cy="22096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00:07:07Z</dcterms:created>
  <dc:creator> </dc:creator>
  <dc:description/>
  <dc:language>en-US</dc:language>
  <cp:lastModifiedBy>SOE</cp:lastModifiedBy>
  <dcterms:modified xsi:type="dcterms:W3CDTF">2008-06-06T02:38:19Z</dcterms:modified>
  <cp:revision>43</cp:revision>
  <dc:subject/>
  <dc:title>Substorm impacts on inner magnetosphere convection</dc:title>
</cp:coreProperties>
</file>