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6.png" ContentType="image/png"/>
  <Override PartName="/ppt/media/image4.png" ContentType="image/png"/>
  <Override PartName="/ppt/media/image5.pct" ContentType="image/x-pict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63F-7DA0-4C15-ACF8-E8E0CBB0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BC8-70E0-49D3-B25C-8229F7E9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D76-255C-416E-916C-4E960D2D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0B9-5570-4B7D-AA78-1FD078FD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91B-25CC-4D7D-8BCA-E99E12ED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0FF-A2F7-459C-8C5D-08BE6C43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27A-EEF3-4480-B0A1-49EEB79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106-C739-403E-B347-81F4B45C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07D-C965-4FC3-B708-7A9DEB1C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7B2-F4DD-48DC-8538-788EFE8D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FFB-C3C2-4ACC-9A7B-624F33D6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84B-2C64-4B3C-9C5A-F2B95D51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35A5-6544-432C-9125-59120A073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APL Icon - Blue"/>
          <p:cNvPicPr/>
          <p:nvPr/>
        </p:nvPicPr>
        <p:blipFill>
          <a:blip r:embed="rId2"/>
          <a:stretch/>
        </p:blipFill>
        <p:spPr>
          <a:xfrm>
            <a:off x="152280" y="228600"/>
            <a:ext cx="1143000" cy="657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229600" y="152280"/>
            <a:ext cx="812880" cy="812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181480" y="3049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7920" y="304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622520" y="67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57240">
            <a:solidFill>
              <a:srgbClr val="000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Statu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J.Ba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Generating a multi-panel plo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cat ????.rp.xml &gt; multipage.rp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grid -width 640 -height 960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numx 2 -numy 3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page.rp.xml &gt; output.rp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6200" y="228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T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24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New composi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s plots to be constructed from layers of data (like G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data sources (not just SuperDARN) can be composited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 Alpha Channel blending (translucenc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No other scientific visualization software can do th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6200" y="228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T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6200" y="228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T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Macintosh HD:Users:barnes:Desktop:SuperDARN 2008:SDmovie.mov" descr=""/>
          <p:cNvPicPr/>
          <p:nvPr/>
        </p:nvPicPr>
        <p:blipFill>
          <a:blip r:embed="rId1"/>
          <a:stretch/>
        </p:blipFill>
        <p:spPr>
          <a:xfrm>
            <a:off x="990720" y="0"/>
            <a:ext cx="6856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33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Scalable Vector Graphics (SVG)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existing rplot output is SuperDARN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VG is a W3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ed by many graphics ed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ed by many brow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6200" y="228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T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440"/>
            <a:ext cx="6856560" cy="6856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12600"/>
            <a:ext cx="6858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e more thing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Receiver Driv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 card at I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h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 card at H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TS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/TS card at I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TSh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214/TS card at H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ots of thanks to Todd and Di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a"/>
                </a:solidFill>
                <a:latin typeface="Arial"/>
              </a:rPr>
              <a:t>Drivers appear identical to the rest of the software so no customization for different rad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6920" y="2286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ar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 of Ster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eo converted to the new version of 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for analogue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for digital rece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receiver driver adapted to allow multiple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a"/>
                </a:solidFill>
                <a:latin typeface="Arial"/>
              </a:rPr>
              <a:t>The Stereo software has been installed and tested using digital receivers at Blackst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6920" y="2286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ar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of “tausc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y and Kjellmar’s new pulse sequence and la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g table has multiple pulse pairs for a single 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st pair are used for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analysis libraries and tools to suppor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to 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 a stereo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 variables to the RawACF file to indicate we are using a “tauscan mod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ly store only the first set of lag 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 to store the full lag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 make_fit to autodetect “tauscan” RawACF files and process them automa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6920" y="2286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ar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of I&amp;Q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y was developed to diagnose digital receiver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xscope as a virtual oscill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rawdump to look at actual sampl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from the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d  a single monolithic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d not contain all the radar operating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6920" y="2286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ar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of I&amp;Q samples  - iq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to rawacfwrite and fitacf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s files every 2 hours in DataMap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 contains the Radar Parameter Block and I&amp;Q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s are accumulated in a shared memory buffer maintained by the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qwrite can be turned on and off in the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0000"/>
                </a:solidFill>
                <a:latin typeface="Arial"/>
              </a:rPr>
              <a:t>Files are bi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6920" y="2286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ar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at version 2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ous bug 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tools for working with I&amp;Q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ke_ra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 RawACF file from I&amp;Q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ke_rawe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 RawACF file from I&amp;Q data (tau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ke_iqin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n index file to an IQda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im_iq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m a section from an IQda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q_pl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e xterminal display of I&amp;Q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6560" y="22860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The IDL libraries include routines for reading and writing I&amp;Q samples from an Iqda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code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DL implementation of the full ACF algorithm would be an excellent educational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 project for a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6560" y="22860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0000"/>
                </a:solidFill>
                <a:latin typeface="Arial"/>
              </a:rPr>
              <a:t>Added support for multi-page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iously tools could only produce a single 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icult to review lots of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s provided for working with multi-page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c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atenate multiple rplot files into one multi-p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gr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ormat a multi-page rplot file into a multi-panel 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inde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an index to a multi page r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multiple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 a multi-page rplot file from multiple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pag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nt the number of pages in a multi-page rplot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lottri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pages from a multi-page rplot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6200" y="228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ST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6:21Z</dcterms:created>
  <dc:creator>Robin Barnes</dc:creator>
  <dc:description/>
  <dc:language>en-US</dc:language>
  <cp:lastModifiedBy>Robin Barnes</cp:lastModifiedBy>
  <dcterms:modified xsi:type="dcterms:W3CDTF">2008-06-01T21:43:12Z</dcterms:modified>
  <cp:revision>12</cp:revision>
  <dc:subject/>
  <dc:title>Software Status Report</dc:title>
</cp:coreProperties>
</file>